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7621588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F4C-AB45-4E24-85BF-76828A1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88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87F-CF94-475D-8B73-8C3DDBC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92A-5553-4935-B471-A31D3DFE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0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0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88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88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88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458-D8A9-4D30-B1AA-F80CF64B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0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CFF-C8E8-4B22-9130-47FA9C7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C8F-48FD-4B8D-831E-EA3E05C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290-788F-40A7-82D7-D169C05D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CA7-AA59-43B8-80EF-1A5687EB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76080"/>
            <a:ext cx="77724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42E-BA9C-44C5-9515-17F98D2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963-00A9-4431-943E-1C89AD1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88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53E-4CEE-426C-9AE2-0627A0E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0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88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2F2-BC9A-4BEB-BE89-6B5DB3C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0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9433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9433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9433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EF00-5754-47E8-B970-C428CC19C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68580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DAD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1080" y="152388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DES WA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8040" y="3013200"/>
            <a:ext cx="676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erarquía de Transmisión Digital P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écnicas de Conmutación. Conmutación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CP y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B8F-5D0D-4EE4-996A-1FA9263B41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2040" y="304920"/>
            <a:ext cx="52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Dispositiv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166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733920" cy="1778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057400" y="3962520"/>
            <a:ext cx="4495680" cy="13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981080" y="5791320"/>
            <a:ext cx="4876920" cy="102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914400"/>
            <a:ext cx="636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RAD  (Frame Relay Access Device) . Para tráfico S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uter Frame relay. Para tráfico de 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FRAD. Dispositivo de acceso frame relay con capacidad para v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590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53341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FCA-964D-4722-B0F3-8E0E4DAB526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3840" y="304920"/>
            <a:ext cx="50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Estructura de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495680" cy="176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480" y="26668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LCI.- Identificador de la conexión de enlace de datos  (10 bits = 1024 Circu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/R-     Bit de comando/respuesta (No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A-      Bit de dirección extendida. Sirve para extender el campo de dir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CN- Bit Notificación de congestión hacia delante. Es decir hacia e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ECN- Bit de Notificación de congestión hacia atrás. Es decir hacia el transmisor. DE-     Elegible para descartar. Activado por los nodos cuando hay mucho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8769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s de DL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                 Control de la señ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-15             Reser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6-1007       Para PV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8-122     Grupos Multicast (Fut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23            Administración Local de la   Interface (LM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943-C7E3-42D2-A069-26586F5CEE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049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 Concepto de DL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can040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352680" y="1295280"/>
            <a:ext cx="5334120" cy="2435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7600" y="914400"/>
            <a:ext cx="72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gnificado únicamente local. Es decir, puede repetirse en otro lado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an040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505320" y="4191120"/>
            <a:ext cx="5257800" cy="234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5238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ón de los n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mutan los DLC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rifican erro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ramas para descartar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724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presencia de 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scartar las tramas que   tienen el bit DE act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ar los bits FECN y BE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Actualmente: Pocos equipos de usuario responden a estos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4C9-0F18-42EB-B1A1-0C9B2B4AA88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0600" y="304920"/>
            <a:ext cx="68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Congestión y parámetros de t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ig3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4496040" cy="2662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838080"/>
            <a:ext cx="8016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frame relay pública, el usuario tiene que señalizar para cada circuito virtu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R. Tasa de información acordada.  En 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ed garantiza la entrega de este flujo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c .- Es el tamaño de la ráfaga de datos (en bits) que la red deja pasar sin alt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e .- Es el tamaño de la ráfaga de datos (en bits) que la red deja pasar marcando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s en el bit DE.De manera los nodos puedan descartarlas cuando h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de acceso ubicados en la nube pública, miden los parámetros mencionados cada intervalo de tiempo 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9240" y="4267080"/>
            <a:ext cx="338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valor de CIR puede ser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o no puede rebasar la 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eso (64 kbps ó 2 Mb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bresuscripción. Es 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C8A-9CB3-486D-BA4C-8D724EDBEB3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27760" y="33804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. Administración Local de la Interface (L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080" y="1028880"/>
            <a:ext cx="74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utilizado para monitorizar el enlace de acceso a la red. Tres var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scan040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429000" y="1523880"/>
            <a:ext cx="5410080" cy="19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533520" y="1600200"/>
          <a:ext cx="3219480" cy="22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00200"/>
                    <a:ext cx="32194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fr_multi_ip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1981080" y="4038480"/>
            <a:ext cx="5257800" cy="27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35B-20B4-470E-8F3D-4564A41740D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" y="3207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Arquitectura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529080"/>
            <a:ext cx="685800" cy="44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2400" y="3449520"/>
            <a:ext cx="68580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52480" y="961920"/>
            <a:ext cx="5867640" cy="2882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080" y="3610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4920" y="35560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567160"/>
            <a:ext cx="915840" cy="44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9160" y="267336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BOO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85800" y="4170240"/>
            <a:ext cx="7711920" cy="1381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240" y="5599080"/>
            <a:ext cx="518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RP = Protocolo de resolución de dire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RP = Protocolo de resolución de direcciones en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OOTP = Protocolo de arranque (Asignación de dire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836-B5E6-4CF3-8B68-BC5037627D0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0760" y="120348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es de direc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22760" y="914400"/>
            <a:ext cx="474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mbres de Host  (vg. labna.itmerida.m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 lógicas o de software (v.g.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físicas o de hardware (M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440" y="2406600"/>
            <a:ext cx="31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a dirección IP para c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faz (no para cada h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33920" y="2325600"/>
            <a:ext cx="4724280" cy="2013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4892760"/>
            <a:ext cx="5333760" cy="195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86400" y="5294160"/>
            <a:ext cx="3124080" cy="773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5520" y="4653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cimal con pu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6920" y="32076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Direc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1AD-0189-4984-9752-909D5FB673D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960" y="882720"/>
            <a:ext cx="27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ases de direccione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4560" y="1824120"/>
            <a:ext cx="235080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1.0.0.0     - 127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128.0.0.0 - 191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192.0.0.0 - 223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224.0.0.0 - 234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240.0.0.0 - 247.255.255.2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3760" y="1295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ango de dir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8400" y="4251240"/>
            <a:ext cx="51397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especi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lidez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ección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igen       0.0.0.0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e host en est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igen       ceros.hostid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st en est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os      127.x.x.x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opback (prue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no      todos un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usión en est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no      Netid.un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usión en la red Net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13200"/>
            <a:ext cx="5257800" cy="19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4813200"/>
            <a:ext cx="0" cy="192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814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442880"/>
            <a:ext cx="5790960" cy="2460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71800" y="4813200"/>
            <a:ext cx="0" cy="192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6920" y="32076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Direc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24E-BAEE-4C81-B296-02FFE8F27FF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8120" y="882720"/>
            <a:ext cx="44492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cilitar la administración de redes gran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r las direcciones eficient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 transparente a las redes ex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jorar el desempeño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86200" cy="1063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0560" y="2806560"/>
            <a:ext cx="80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áscara de sub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32 bits que permite extraer la dirección de subred, para el enru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38080" y="3529080"/>
            <a:ext cx="7162920" cy="1049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200400" y="4653000"/>
            <a:ext cx="4038480" cy="221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98560" y="517356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par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 subre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160" y="32076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Sub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9B8-2927-48D3-A31F-F99C12B4F6D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480" y="88272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bred clase B con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33720" y="1363680"/>
            <a:ext cx="4876560" cy="2928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838080" y="5213520"/>
            <a:ext cx="3436920" cy="1427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800600" y="5213520"/>
            <a:ext cx="3146400" cy="1403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27760" y="465300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 direcciones cl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0320" y="4330800"/>
            <a:ext cx="24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subre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 direcciones clas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8520" y="14968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8.108.15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5600" y="248616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8.108.16.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160" y="32076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Sub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443-9A32-41CB-9DB3-FA206064843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360" y="30492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1 Jerarquía Digital Plesiócrona (PD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14400"/>
            <a:ext cx="7848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DH. Sistema de transmisión digital que utiliza TDM y sistema de sincronización distrib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frecido por los carriers telefónicos para transportar información de l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sa básica de canal de64 Kbps (Conocidos como E0 en fibra óptica y DS0 en par de co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básica de 2.048 Mbps (E1) , formada por 30 canales de 64 K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13320" y="4800600"/>
            <a:ext cx="7773480" cy="2135880"/>
            <a:chOff x="913320" y="4800600"/>
            <a:chExt cx="7773480" cy="2135880"/>
          </a:xfrm>
        </p:grpSpPr>
        <p:sp>
          <p:nvSpPr>
            <p:cNvPr id="48" name=""/>
            <p:cNvSpPr/>
            <p:nvPr/>
          </p:nvSpPr>
          <p:spPr>
            <a:xfrm>
              <a:off x="913320" y="502920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2.04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5791320" y="5562720"/>
              <a:ext cx="914400" cy="828720"/>
              <a:chOff x="5791320" y="5562720"/>
              <a:chExt cx="914400" cy="828720"/>
            </a:xfrm>
          </p:grpSpPr>
          <p:sp>
            <p:nvSpPr>
              <p:cNvPr id="50" name=""/>
              <p:cNvSpPr/>
              <p:nvPr/>
            </p:nvSpPr>
            <p:spPr>
              <a:xfrm rot="5400000">
                <a:off x="6024600" y="571032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5791320" y="5715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5791320" y="5867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5791320" y="6019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5791320" y="6172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3733920" y="5334120"/>
              <a:ext cx="914400" cy="828720"/>
              <a:chOff x="3733920" y="5334120"/>
              <a:chExt cx="914400" cy="82872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3967200" y="548172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3733920" y="5486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3733920" y="563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733920" y="5791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3733920" y="5943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905120" y="5029200"/>
              <a:ext cx="914400" cy="828720"/>
              <a:chOff x="1905120" y="5029200"/>
              <a:chExt cx="914400" cy="828720"/>
            </a:xfrm>
          </p:grpSpPr>
          <p:sp>
            <p:nvSpPr>
              <p:cNvPr id="62" name=""/>
              <p:cNvSpPr/>
              <p:nvPr/>
            </p:nvSpPr>
            <p:spPr>
              <a:xfrm rot="5400000">
                <a:off x="2138400" y="517680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905120" y="5181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1905120" y="5334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1905120" y="5486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905120" y="563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772400" y="5791320"/>
              <a:ext cx="914400" cy="828720"/>
              <a:chOff x="7772400" y="5791320"/>
              <a:chExt cx="914400" cy="82872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8005680" y="5938920"/>
                <a:ext cx="828720" cy="533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7772400" y="5943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7772400" y="60962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7772400" y="62485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7772400" y="6401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42120" y="533412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8.44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6880" y="55627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4.36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7240" y="5791320"/>
              <a:ext cx="121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39.265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9200" y="5105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7760" y="4800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3960" y="5334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2760" y="5562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8480" y="59436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5000" y="61722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16080" y="64008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7160" y="66294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ux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3352680"/>
            <a:ext cx="4857120" cy="1510920"/>
            <a:chOff x="2438280" y="3352680"/>
            <a:chExt cx="4857120" cy="1510920"/>
          </a:xfrm>
        </p:grpSpPr>
        <p:sp>
          <p:nvSpPr>
            <p:cNvPr id="85" name=""/>
            <p:cNvSpPr/>
            <p:nvPr/>
          </p:nvSpPr>
          <p:spPr>
            <a:xfrm>
              <a:off x="2438280" y="4343400"/>
              <a:ext cx="8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incron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3733560"/>
              <a:ext cx="4495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752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3733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4280" y="3809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0" y="3809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5000" y="3809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34680" y="3809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0560" y="434340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eñal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819520" y="4038480"/>
              <a:ext cx="75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00600" y="403812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0520" y="3429000"/>
              <a:ext cx="159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25 us, 2.048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888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3600" y="3581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1916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990720" y="3809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99D-B294-4FC1-A311-BCA987B6F3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480" y="88236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era en modo sin conex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 paquetes se denominan datagrama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ga del mejor esfuerzo: no existe control de errores, ni de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 direcciones IP, definen una red virtual encima de diferentes. plataformas de hard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nciones de direccionamiento, fragmentación, enrutamient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3289320"/>
            <a:ext cx="5943600" cy="3297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91240" y="657684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atagrama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6920" y="320760"/>
            <a:ext cx="64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Formato del data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FF0-3C6B-477E-B6AE-B1BFFA3276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r - Versión del protocolo IP ( actualmente versión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len - Longitud del encabezado (en múltiplos de 4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no hay opciones es de 20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S - Tipo de servicio: 3 bits indican la prioridad. 3 bits indican optimizar: el retardo, el throughput o la confiabi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ngitud total del datagrama. Máximo 64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TL - Tiempo de vida del datagrama. Número de saltos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 -  Protocolo al que se destinan los datos (6 = TCP, 17= U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eader Checksum- Suma de verificación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becer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P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urce Address - Dirección IP de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tination Address - Dirección IP de 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, Flags y Frag. Offset - Para fragmentar y reensamblar  un 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tions + Padding - Para funciones opcionales, tales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gistrar de ruta seguida, registrar hora, enrutamiento desde el orig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7280" y="304920"/>
            <a:ext cx="60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Formato del paqu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640-A4A5-4F3F-BECB-E63D22615B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727360"/>
            <a:ext cx="8076960" cy="3589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961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estación A desea transmitir un datagrama IP a la estació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cada salto las direcciones IP origen y destino no cam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amente cambian las direccione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s tipos de entrega: directa e indirecta (a través de rou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440" y="368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7640" y="30492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Transmisión a través de un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B48-7A1D-4112-BAB5-793647ABD6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120" y="882720"/>
            <a:ext cx="8001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rutamiento es el proceso de escoger la ruta para los data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router (antes Gateway) opera en la capa de red con las direcciones 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enrutador contiene una tabla de enrutamiento con las redes que puede alcanzar y sus costos correspo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sta de una tabla de enru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2967120"/>
            <a:ext cx="6248160" cy="1541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3520" y="4732200"/>
            <a:ext cx="8001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ómo se crea la tabla de enru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ualmente se pueden crear ruta est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% route add 158.108.20.0  158.108.3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námicamente: Usando un protocolo de enrutamiento (RIP, OS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irección I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9440" y="304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Ru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408-F087-4394-8561-30962B6855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09120" y="882720"/>
            <a:ext cx="80010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utea_IP_datagrama(datagrama, tabla rut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dirección IP D del datagrama, extraer el prefijo de red N (o subr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f  N es una red directamente conectada entonces entrega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buscar una ruta exclusiva para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buscar una ruta para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enviar al router d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se declarar un error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51240"/>
            <a:ext cx="47246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tabla de enrutamiento puede consistir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ón IP desti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ón IP del siguiente s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face de red a us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áscara de subred para esta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para llegar al 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62720" y="2246400"/>
            <a:ext cx="2705040" cy="1482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943600" y="5052960"/>
            <a:ext cx="76212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4813200"/>
            <a:ext cx="990720" cy="120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l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705360" y="5454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6530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5480" y="41860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440" y="304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Ru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74A-007D-422A-B48A-CC8812834D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882720"/>
            <a:ext cx="80010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s dinámicos:RIP 1, RIP 2, O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P. Protocolo de información de enru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vector de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: Número de saltos, Infinito =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cambio de tablas de enrutamiento cada 30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daemon Unix que lo ejecuta es ro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P 2 es una versión mejorada que soporta el uso de sub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SPF. Open Shortest Path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estado del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porta balanceo de carga (rutas de igual co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porta sub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eja aut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emon Unix: g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6920" y="304920"/>
            <a:ext cx="63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Protocolo de Internet. Tipos de enru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2D4-8A86-4D80-BA82-D91720597F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344520"/>
            <a:ext cx="789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3.4 Protocolo de resolución de direcciones ARP y en reversa RA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33160" y="882360"/>
            <a:ext cx="80010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RP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Permite conocer la dirección MAC que corresponde a una dirección IP d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RP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Permite conocer la dirección IP correspondiente a una dirección MAC d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entrega de los datagramas se hace conociendo las direcciones 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e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host X quiere resolver la dirección MAC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 envía en modo broadcast un ARP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 recibe una trama unicast de Z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4251240"/>
            <a:ext cx="6583320" cy="26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19B-0663-44CE-ADE1-6F630CDE35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3400" y="3207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ARP y R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480" y="801720"/>
            <a:ext cx="78487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tocolo ARP siempre se activa por default. Crea una tabla caché, que se pu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isualizar mediante el com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/ arp 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8.108.33.5 at  0:0:e8:15:cc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8.108.33.2 at  2:60:8c:2e:b5: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entradas son borradas automáticamente si no son us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429000"/>
            <a:ext cx="7848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 RA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dispositivos sin disco duro por lo que no pueden almacenar sus direcciones 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se desea forzar un arranque con un serv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quiere instalar y configura un software RARP en un serv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 el mismo formato de trama que A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emite un mensaje RARP request y se espera por un RARP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puede operar a través de un enrut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OOTP y DHCP son protocolos que sustituyen a RA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5ED-889E-45A9-9BA9-B11813A715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32076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 Formato de trama ARP y R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218960" y="4490640"/>
            <a:ext cx="69339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rdware type: Ethernet = 1, localtalk =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 type: IP = 0x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len y plen= longitud de las direcciones de hardware y de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eración ARP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P  reques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P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RP reques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RP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52480" y="882720"/>
            <a:ext cx="5486400" cy="344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7C7-5C16-4AFA-BEB7-A540AE3790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76560" y="32076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4.Protocolo de mensajes de control de Internet (IC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09480" y="801720"/>
            <a:ext cx="784872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porta al nodo origen condiciones de error ocurridas en los routers o en e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algunos mensajes se incluye parte del datagrama que ocasionó el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realizar algunos diagnósticos sobre la operación de la red. Aplicaciones: Ping y Tracero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necesita configur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capsulación de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4010040"/>
            <a:ext cx="4784760" cy="23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FB1-186A-4558-9DBC-AC6409D4993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47242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operación interna de los nodos gener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écnicas de conm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mutación de circu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mutación de paque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emento clave: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do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ón clave: Enru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9800" y="30492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Técnicas de conm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581640" cy="2860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3894120"/>
            <a:ext cx="7848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e circu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 orientado a conexión. Establecimiento, transferencia y lib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cursos asignados por la red  a cada circuito son de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emplean técnicas TD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tardos de transferencia son fijos y muy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tasa de datos del transmisor y el receptor son fijos e ig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os deben estar disponibles para la comun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  red telefónica y los PB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FBE-C074-490A-B74F-6E1860D09D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2320" y="320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nsajes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480" y="722160"/>
            <a:ext cx="7848720" cy="29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tino (red, host o puerto ) inalcanzable.- No pudo entregarse el 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excedido.-contador ttl llegó a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 de parámetros.- Algún campo es invalido en el datagrama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irección.- Existe una mejor ruta para tal 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y respuesta de eco.- Para saber si una máquina está 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y respuesta de marca de tiempo.- Medir el retardo a algú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icitud y respuesta de mascara de sub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76920" y="4010040"/>
            <a:ext cx="3809880" cy="1363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800600" y="5533920"/>
            <a:ext cx="3886200" cy="1265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09480" y="5533920"/>
            <a:ext cx="4114800" cy="1324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533520" y="4010040"/>
            <a:ext cx="434340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B1B-4233-4F3F-8BE4-5BEA3460609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79440" y="32076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erramienta de diagnóstico 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3368520"/>
            <a:ext cx="7193160" cy="3240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19120" y="925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209680" y="1122480"/>
            <a:ext cx="4778640" cy="179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F61-AC2A-48AD-9B2A-049B269D6A0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792468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bjetivo: Encontrar la mejor trayectoria para cada par origen-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écnicas de enrutamiento pueden se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áticas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utas se calculan al iniciar la operación de la red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inámica.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utas se actualizan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redes de circuitos virtuales (F. Relay) la ruta se determina al inicio de la conex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redes de datagramas (IP) las rutas se determinan por data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lgoritmos de costo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:  Número de saltos, capacidad del enlace, longitud de la cola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 total = suma de costos en cada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algoritmos: Dijkstra, Bellman-For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560" y="3049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5 Enrut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3124080" cy="2279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CD0-54E6-4477-BE8C-9E1461D1F30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nodo mantiene dos vect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6560" y="304920"/>
            <a:ext cx="70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nrutamiento por Vector de distancia (Bellman-F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95240" y="1353960"/>
                <a:ext cx="237168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457200" y="4402080"/>
            <a:ext cx="7924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iódicamente cada nodo intercambia sus vectores con todos sus vec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El nodo i actualiza su vector de costos como sig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1353960"/>
            <a:ext cx="518148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= Vector de costos (distancias) para el nodo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Costo mínimo del nodo i al nod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= Vector indicador de nodo siguiente para el no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El nodo siguiente a visitar para llegar al nod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= Número de nodos en 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96920" y="5334120"/>
                <a:ext cx="24732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[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3886200" y="5504040"/>
            <a:ext cx="419112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 Costo del enlace i-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= conjunto de nodos vecinos al nod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 = es el nodo seleccionado para llegar a alcanza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3556080"/>
            <a:ext cx="7924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étricas de costo típicas: número de saltos y retar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6B0-3FDD-4DB0-8710-1A695782E4B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: Nod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6560" y="304920"/>
            <a:ext cx="74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5 Enrutamiento por Vector de distancia (Bellman-F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371600"/>
          <a:ext cx="34750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3475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053240" y="1352520"/>
            <a:ext cx="13327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st.   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      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       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       5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        1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        6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        8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1295280"/>
            <a:ext cx="3999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1295280"/>
            <a:ext cx="3999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1295280"/>
            <a:ext cx="3999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33080" y="1295280"/>
            <a:ext cx="75960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 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1295280"/>
            <a:ext cx="457200" cy="20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1270080"/>
            <a:ext cx="457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1270080"/>
            <a:ext cx="457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1270080"/>
            <a:ext cx="9144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12700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1270080"/>
            <a:ext cx="13716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12700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12700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160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160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160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160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160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1862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2116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37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2624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296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186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1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237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262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29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186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21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237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24480" y="262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29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0" y="186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21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237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262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296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1862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2116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2370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43800" y="2624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43800" y="296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8880" y="3301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920" y="3301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pu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86400" y="33019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ctores re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3894120"/>
            <a:ext cx="7924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blema de conteo al infini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656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46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46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465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2160" y="42339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        B        C        D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3080" y="4741920"/>
            <a:ext cx="319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     inf        inf        inf   Inicial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inf       inf        inf   1er 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inf       inf   2o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3          inf  3er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3          4    4o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32920" y="42339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        B        C        D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4120" y="4741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4741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00800" y="4741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4741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440" y="4826160"/>
            <a:ext cx="3084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         2         3          4    Inicial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3         2         3          4    1er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3         4         3          4   2o. 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         4         5          4   3er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         6         5          6  4o. inter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876560" y="4995720"/>
            <a:ext cx="22860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4995720"/>
            <a:ext cx="7632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6265800"/>
            <a:ext cx="8153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ventaj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22B-BD89-4BA1-B529-16E95461DFF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do para cubrir las deficiencias del algoritmo de vector de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nodo deb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r una tabla con el costo de los enlaces a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viar periódicamente dicha tabla a todos los nodos de la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 las trayectorias de costo mínimo con la información recib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de las tablas casi independiente del  número de nod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ge más rápido que el de vector de dist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manejar más de una trayectoria óp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5040" y="30492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5 Enrutamiento por Estado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7D0-1CFF-4901-AAB4-E2416F9B2E2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79440" y="32076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TCP y UDP. Protocolos de la capa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porcionar una transferencia confiable de extremo a extremo, independiente del número y de la tecnología de las redes intermed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ibir los datos de la capa de red y pasarlos a la aplicación correspondiente usando el concepto de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tocolos de transporte en la arquitectura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CP Protocolo de control de transm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DP Protocolo de datagrama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553080" y="3352680"/>
            <a:ext cx="1866960" cy="1973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09480" y="396252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ue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ones de la capa de transporte para ident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las distintas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asociación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ción_IP.Puert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(conocida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)  identifica a la aplicación en tod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puertos se aplican tanto para TCP como UD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1A4-059E-40CD-A51A-126A6D15FE6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signación de puer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usado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6-102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uso reserv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-25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well-known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24-65535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el usu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a comunicación  aplicación-aplicación se identifica median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{ dirección_IP.puerto (origen) , dirección_IP.puerto (destino) } protocol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3809880"/>
            <a:ext cx="6743520" cy="2651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402240" y="28195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TCP ó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9440" y="32076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TCP y UDP. Protocolos de la capa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4D7-74EE-4562-9C40-E613064C85D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orientado a conexión, por lo que provee un servicio confiable : control de flujo, errores, secuenci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es para la prevención y control de la con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se transfieren como u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ujo de octe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full-dúplex (similar a la escritura en archiv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es de aplicación que usan TCP: HTTP, FTP, SMTP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3048120"/>
            <a:ext cx="6324480" cy="833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286000" y="3962520"/>
            <a:ext cx="6324480" cy="292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94360" y="47386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becera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7280" y="32076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Protocolo de control de transmisiones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75F-EA41-4951-B243-45B4534A503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rto origen y destino -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secuencia y  reconocimientos de los segmentos. Para las funciones de control de flujo y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a offs- Indica en donde empiezan los datos, en múltiplos de 32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v= reservado (no us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ags (Bande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G . El segmento contiene datos ur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K . Trama de re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SH . (Push) Pasar los datos al usuario sin esperar que se llene el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ST - Reiniciar la conexión ( contadores a c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YN - Segmento para el establecimiento de la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N - Segmento para la terminación de la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indow- Indica al transmisor, la cantidad de buffer dispon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hecksum- Suma de comprobación de errores, incluyendo un subencabezado con las direcciones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untador Urgente - Indica en donde empiezan los datos ur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ciones-  Varias, vg.: tamaño máximo del segmento (M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7280" y="32076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Protocolo de control de transmisiones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289-2BA8-4FD1-BF5C-EF6B0B2F420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846000"/>
            <a:ext cx="79246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son transmitidos en forma de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funcionan en modo “almacena y retransmite” (store and forw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cursos no se asignan de manera dedicada, si no que se compar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nodos operan con multiplexaje estadís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el uso de prior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tardos de transferencia son grandes y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520" y="30492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. Conmutación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3000" y="2971800"/>
            <a:ext cx="4191120" cy="2465280"/>
            <a:chOff x="1143000" y="2971800"/>
            <a:chExt cx="4191120" cy="24652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43000" y="2971800"/>
              <a:ext cx="4191120" cy="24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1143000" y="2971800"/>
              <a:ext cx="4191120" cy="246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3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1200" y="5867280"/>
            <a:ext cx="58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Cuál deber ser el tamaño de los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Tamaño de paquete fijo o variab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lación de la parte de control a la de datos (Overhea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0720" y="3979800"/>
            <a:ext cx="24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Para que tipos de da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adecuada cada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conmutació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961-1D75-4276-8A0F-873F27FEFC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cimiento - Usa un procedimiento de 3 intercambios de mensajes (three way handshake) para mayor confi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4724280"/>
            <a:ext cx="5532480" cy="2133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43000" y="1600200"/>
            <a:ext cx="7102440" cy="2865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33520" y="42670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b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4760" y="320760"/>
            <a:ext cx="68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TCP. Establecimiento y liberación de la con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712-BE0C-42F4-9F6D-54BFF59848B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 sin conexión, por lo tanto provee un servicio no conf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principal función es proveer la identificación de las aplicaciones (multiplexaje) a través de los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puertos UDP son distintos a los puertos TCP aunque tengan el mismo núm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tocolos Aplicaciones que usan UDP: TFTP, DNS, RPC, NFS, SN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3657600"/>
            <a:ext cx="6964560" cy="868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8080" y="4876920"/>
            <a:ext cx="7315200" cy="1722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0880" y="320760"/>
            <a:ext cx="58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UDP. Protocolo de datagrama de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03A-B1A0-475C-8D49-EF7FA48659A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762120"/>
            <a:ext cx="8229600" cy="621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2320" y="32076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6 Puertos comunes en TCP y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143000" y="1295280"/>
          <a:ext cx="2865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2865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5334120" y="1371600"/>
          <a:ext cx="2225520" cy="457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371600"/>
                    <a:ext cx="222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2347920" y="952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69080" y="914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A9B-F4B5-469C-AE2E-617EBDA3F85F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79246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onmutación de paquetes, puede implementarse de dos maner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ircuitos Vir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atag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ircuitos vir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 orientado a conexión. Establecimiento, transferencia y lib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identificador de circuito virtual (VC) es usado para  guiar  los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aquetes llegan en secuencia -&gt;facilidad para: Control de flujo y err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transferencias lar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s posibilida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ircuitos Virtuales conmutados (SV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ircuitos virtuales permanentes (PV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atagra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 sin conexión. Transfer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datagrama lleva la dirección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uta seguida por cada datagrama es independiente de lo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ribo fuera de secu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 mayor ventaja es su robustez ante la congestión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transferencias cor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7280" y="304920"/>
            <a:ext cx="82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. Circuitos Virtuales y Data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6FD-10BA-4A9A-B933-13601685D3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6840" y="30492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010280" cy="5880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95600" y="66722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grama de tiemp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FEF-7396-4A09-9452-34DB2D7828A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4680" y="30492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. Transferencia de pa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809880" cy="189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4800600" cy="2325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4610160" cy="221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01920" y="1219320"/>
            <a:ext cx="35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establecen los circuitos vir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505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aquetes siguientes señalizan el identificador de  circui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5638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agramas señaliz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dirección del 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99C-BD74-4C7F-8F32-D2564848658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29920" y="33804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2 Conmutación de paquetes. Tabla com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15920"/>
            <a:ext cx="792468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rcui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rcuitos virtual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tag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dedicad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no dedicad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no ded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continu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tore and forwar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tore and 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uta es estableci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uta establecida pa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uta establecid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toda la convers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da la convers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paqu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ardo de establecimi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ardo de establecimi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ardo de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de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ongestión bloque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ongestión bloque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menta el retar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uevas llamad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uevas llamadas y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transm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menta el retardo de 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ualmente no exis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sión de velocida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s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ersión de velocida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ho de banda 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ho de banda 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ho de band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fij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inámic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iná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015920"/>
            <a:ext cx="7848720" cy="538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440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015920"/>
            <a:ext cx="0" cy="538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1015920"/>
            <a:ext cx="0" cy="538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68960" y="647712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umen de características de las técnic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14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15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0292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280-597B-40DF-B5CE-90F609F64D9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una interfaz de acceso (UNI) a una red de conmutación rápida de paque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lea el concepto de circuitos virtu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PVCs actualmente y  SVC en un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multiplexado y conmutación de las conexiones lógicas se efectúa en la capa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hay control de flujo y de errores por cada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lega la recuperación de errores a los protocolos en las estaciones f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ficiencia de transmisión se eleva en un orden de magnitud respecto a X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acceso de hasta 2Mbp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eñada para la transferencia de datos y adaptada puede transportar vo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eden ser públicas o priv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incipales aplicaciones: Interconexión de LANs, S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3804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3.3 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3657600" cy="230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762120"/>
            <a:ext cx="8382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frame5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57200" y="4419720"/>
            <a:ext cx="4724280" cy="186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. Redes W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E44-A510-4C58-9471-DEEF7F39CD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9:32Z</dcterms:created>
  <dc:creator>José Agustín Hernández B.</dc:creator>
  <dc:description/>
  <dc:language>en-US</dc:language>
  <cp:lastModifiedBy>José Agustín Hernández B.</cp:lastModifiedBy>
  <cp:lastPrinted>1999-05-28T00:46:04Z</cp:lastPrinted>
  <dcterms:modified xsi:type="dcterms:W3CDTF">2000-07-15T21:05:53Z</dcterms:modified>
  <cp:revision>7</cp:revision>
  <dc:subject/>
  <dc:title>Sin título de diapositiva</dc:title>
</cp:coreProperties>
</file>